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5B4-B797-4B8D-A058-967A5822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240-7374-4CDE-BF15-9A281E55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21D-DC94-4BCD-A73E-183FA789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3E0-8280-4D23-8D12-1E41B005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B18-FBD6-4248-9B6A-FEA5D93C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DC7-00AE-42DC-B314-61016A31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B1B-46FE-4E49-9C09-13CF265C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C7B-02B4-4F68-BB83-D1391210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965-D658-41C0-9E56-1E3B1347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DB1-46B9-4D7A-A32C-B49E1E76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9D5-DBBE-4E73-BDB8-26A07A2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721-F614-4C16-B645-E1C0877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A9A9-35BB-44AB-BA58-185BE5A81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4:57:25Z</dcterms:created>
  <dc:creator>Grupo Editorial</dc:creator>
  <dc:description/>
  <dc:language>en-US</dc:language>
  <cp:lastModifiedBy>Grupo Editorial</cp:lastModifiedBy>
  <dcterms:modified xsi:type="dcterms:W3CDTF">2001-09-27T15:00:33Z</dcterms:modified>
  <cp:revision>1</cp:revision>
  <dc:subject/>
  <dc:title>Sin título de diapositiva</dc:title>
</cp:coreProperties>
</file>